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D31-7202-4C21-AF16-027339F3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C90-9FEA-476E-97C7-39ABD70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532-A1ED-4873-98BC-A0CAC691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C10-74AE-4646-8141-D595A25F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C76-C93D-4A00-B63E-FCA9C7D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4AC-9CEE-48DE-B486-4E86F7BE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4F7-787F-4C37-8BB7-C454EACC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C17-27D1-4C0F-87E6-F399946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940-875B-482B-B77C-5B13F57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B00-4642-4744-BE83-CA7DD5F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6D4-A243-4AC9-98A2-EF6DF6E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F6C-385F-42E7-9312-8535833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0A6-241F-4336-8573-0800FA4C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43200" y="480060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 Love  You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23:40:59Z</dcterms:created>
  <dc:creator>Maria.Bagadion</dc:creator>
  <dc:description/>
  <dc:language>en-US</dc:language>
  <cp:lastModifiedBy>Maria.Bagadion</cp:lastModifiedBy>
  <dcterms:modified xsi:type="dcterms:W3CDTF">2010-05-03T23:47:47Z</dcterms:modified>
  <cp:revision>1</cp:revision>
  <dc:subject/>
  <dc:title>Slide 1</dc:title>
</cp:coreProperties>
</file>